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50E6-4201-4829-81B8-0749AF47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AB6D-9899-43C2-9775-5EA0889D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ADC-7D23-4912-A42E-200DA8EA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46AD-73FA-4018-B9AF-6F4FC904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FF0-5D09-4F10-AAF5-9133002E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E7C4-1DD7-40E7-AA01-5BB6CA49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F400-2CEC-4C83-BB62-D4ADD6BC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C308-9AEF-47DB-8B64-415DC87E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3C69-888B-4112-97DE-5AEE897B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848-AEDA-4921-8802-51A45F13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6C71-9D0C-46EE-8A40-3CC4B3DA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05B8-F0BE-486D-8726-718999E9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ABE9-7D7B-4D87-A4B0-C7E19800B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Arial"/>
              </a:rPr>
              <a:t>Partnering for Education</a:t>
            </a:r>
            <a:br>
              <a:rPr sz="4000"/>
            </a:b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nd </a:t>
            </a:r>
            <a:br>
              <a:rPr sz="3200"/>
            </a:br>
            <a:r>
              <a:rPr b="0" i="1" lang="en-US" sz="5400" spc="-1" strike="noStrike">
                <a:solidFill>
                  <a:srgbClr val="ffff00"/>
                </a:solidFill>
                <a:latin typeface="Arial"/>
              </a:rPr>
              <a:t>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411480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 Invitation to Local K-12 STEM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re Dam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search Commun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ND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Team Members and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tomic Imaging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ighid Corcoran (G), Ruth Craft (T) &amp;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nette Raigoza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tronom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oe Ribaudo (G) &amp; Aaron McNeely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oEye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ames Whitcomb(G) &amp; Mark Ballentine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oinformatic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ill Dzurisin (G) &amp; Tom Loughran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obotic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yan Connaughton (G), Ken Andert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ian Brubaker (T) &amp; Matt Modlin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rtnering for Education and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osing 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trict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ffice of Congressman Joe Donne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um Centerpiece – Project Fair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ditional Tours – Chemistry &amp; Physics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minders – Evaluation and Contact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x Lunch – Available in Gall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rtnering for Education and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lc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rector of Community Relations University of Notre D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ion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ffice of U.S. Senator Evan Bay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rtnering for Education and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onsor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ational Science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otre Dame College of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otre Dame College of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otre Dame QuarkNet Center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otre Dam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Research Community (ND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help of MANY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rtnering for Education and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ticipating Organiz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ioEyes (Thomas Jefferson Univers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ISM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T@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gRET@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ark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2U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D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rtnering for Education and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9:30 - 10:00 a.m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tion and Research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:00 - 10:40 a.m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ur of Museum of Bio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r Digital Visualization The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:40 - 11:40 a.m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oEyes Presentation by Dr. Jamie Sh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:40 – 12:00 no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tion and Research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:00 – 2:00 p.m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osing Remarks, Lunch and Project F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urs of Chemistry &amp; Physics L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re Dam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search Commun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ND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5 Year NSF GK-12 Project – 1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urrently 6 Graduate Fellows from Science and Engineering and 7 K-12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ams often include a graduate fellow, a teacher and several high schoo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ams concentrate on research during the summer and on educational activities during the academic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re Dam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search Commun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ND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search is Important – complementary approach to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acher is the Professional in 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velop Effective and Collegial Relationships - M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gin Slowly – An extra pair of hands and 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ed Judiciously with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ablish an Enduring Community of Researchers/Edu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ster a Rich Culture in Engineering, Science and Math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during Community and Rich Culture are Mutually Enh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re Dam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search Commun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ND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Variety of Opportunities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ome a Team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search – primarily during the su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assroom Activities – primarily during the 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search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raduate Fellow can be a mentor/colleague for a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assroom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tra pair of hands and 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velop/Implement Activities – BioEyes &amp; Im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ubs – Robotics, Science, Ma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e a Suggestion – maybe we can collaborate in 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ay we haven’t thought of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re Dam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search Commun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ND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nefits for K-12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perience the collegiality and excitement of collaborating with fellow teachers and Notre Dame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ork with fellow teachers and Notre Dame researchers to enhance STEM education in the local 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laried research positions at Notre Dame during the summ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ademic credit for graduate research at Notre D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rick J. Mooney</cp:lastModifiedBy>
  <dcterms:modified xsi:type="dcterms:W3CDTF">2008-01-17T20:49:48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